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CF029-8EE9-4434-A7C5-5DCF4B908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9846-81BB-4EB2-AE48-63BB02AD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D869B-E117-413A-87EB-090F56499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D1F16-7897-46F5-A4A1-E6DDBDEB6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931B4-6893-46BD-9F6B-1EA5F7061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88ED6-6B56-47F5-8447-40CFD406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8E437-88CC-4718-BF3C-5F7D5CD1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E37E-FEF3-4CA4-91E1-EF7D14F5B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F2F0-E2D2-4358-980B-BA61A143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D1375-9209-4788-8DCF-22C8A747F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40EC-405A-4D7F-8B9A-76CA5597E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5437-FB8F-46B3-AE1D-1E8399AFD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8FDA-98A1-47A8-8902-E6FBC0529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90"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Effect filter="fade" transition="in">
                                      <p:cBhvr additive="repl">
                                        <p:cTn id="96" dur="2000"/>
                                        <p:tgtEl>
                                          <p:spTgt spid="55">
                                            <p:txEl>
                                              <p:pRg st="3" end="3"/>
                                            </p:txEl>
                                          </p:spTgt>
                                        </p:tgtEl>
                                      </p:cBhvr>
                                    </p:animEffect>
                                    <p:anim calcmode="lin" valueType="num">
                                      <p:cBhvr additive="repl">
                                        <p:cTn id="97"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