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2BDF8-F97F-4910-B966-719751654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64FDE-DF68-4051-8114-EBFE2E152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9D55D-74E7-4C42-BB71-8B30E691C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756AB-B27B-49B8-B5D7-D2F95F5BE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753DF-E838-4FD3-A0D1-D6C0D4179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20B3B-82BD-407E-8CD8-6A79F6D3C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0C92C-CFF6-4F09-891D-1FA8C4446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87853-9D63-42D5-A123-61784A316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81CED-3DC1-401D-8293-8283FA3DF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017BC-0CB7-473B-8CBE-C646626F6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09B51-9842-4103-8592-F4F2594CB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A6AFF-C692-4483-90A0-D97E8F1C1C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84665-B9EA-469E-BAC4-092EF44CB2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79" dur="5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 calcmode="lin" valueType="num">
                                      <p:cBhvr additive="repl">
                                        <p:cTn id="84" dur="1000" fill="hold"/>
                                        <p:tgtEl>
                                          <p:spTgt spid="5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5" dur="1000" fill="hold"/>
                                        <p:tgtEl>
                                          <p:spTgt spid="55">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6" dur="1000" fill="hold"/>
                                        <p:tgtEl>
                                          <p:spTgt spid="55">
                                            <p:txEl>
                                              <p:pRg st="2" end="2"/>
                                            </p:txEl>
                                          </p:spTgt>
                                        </p:tgtEl>
                                        <p:attrNameLst>
                                          <p:attrName>ppt_y</p:attrName>
                                        </p:attrNameLst>
                                      </p:cBhvr>
                                      <p:tavLst>
                                        <p:tav tm="0">
                                          <p:val>
                                            <p:strVal val="#ppt_y"/>
                                          </p:val>
                                        </p:tav>
                                        <p:tav tm="100000">
                                          <p:val>
                                            <p:strVal val="#ppt_y"/>
                                          </p:val>
                                        </p:tav>
                                      </p:tavLst>
                                    </p:anim>
                                    <p:animEffect filter="fade" transition="in">
                                      <p:cBhvr additive="repl">
                                        <p:cTn id="87" dur="1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slide(fromRight)" transition="in">
                                      <p:cBhvr additive="repl">
                                        <p:cTn id="92" dur="5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