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26D4E-7C48-47E8-8228-726037737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3AEE2-EC00-46D4-AD39-064BCC02A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ACAD4-BFE6-4F31-B9DB-4E1301ABE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6858B-6EAF-4781-8EE2-9F07B10DE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CA8A1-075F-4159-A4D7-0D0B9A704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88A68-F946-44F7-8159-E3CC3E816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C3B98-14A4-41F5-894E-19A0E0A53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72879-E980-42DD-B86E-1385890AA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6C604-CBE9-4B41-ACA4-360B8B65A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E8C7C-129D-4E48-9046-98D759C51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CAEEA-977C-4D1A-B762-DF6753DCE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729B4-2B96-4C7C-9931-ADAEE9FC6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8F9C-2E16-4C62-9F88-85BF04BD7F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discrete" valueType="clr">
                                      <p:cBhvr additive="repl">
                                        <p:cTn id="83"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55">
                                            <p:txEl>
                                              <p:pRg st="2" end="2"/>
                                            </p:txEl>
                                          </p:spTgt>
                                        </p:tgtEl>
                                        <p:attrNameLst>
                                          <p:attrName>fillcolor</p:attrName>
                                        </p:attrNameLst>
                                      </p:cBhvr>
                                      <p:tavLst>
                                        <p:tav tm="0">
                                          <p:val>
                                            <p:strVal val="rgb(-103,51,51)"/>
                                          </p:val>
                                        </p:tav>
                                        <p:tav tm="50000">
                                          <p:val>
                                            <p:strVal val="rgb(-103,-103,0)"/>
                                          </p:val>
                                        </p:tav>
                                      </p:tavLst>
                                    </p:anim>
                                    <p:set>
                                      <p:cBhvr>
                                        <p:cTn id="85" dur="80"/>
                                        <p:tgtEl>
                                          <p:spTgt spid="55">
                                            <p:txEl>
                                              <p:pRg st="2" end="2"/>
                                            </p:txEl>
                                          </p:spTgt>
                                        </p:tgtEl>
                                        <p:attrNameLst>
                                          <p:attrName>fill.type</p:attrName>
                                        </p:attrNameLst>
                                      </p:cBhvr>
                                      <p:to>
                                        <p:strVal val="solid"/>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