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BBB77-5808-4B1D-9750-A4FEEC7C8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8FE9A-F6F0-4063-AC77-F3C0C8937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D9B53-CEE0-4ADC-953F-94D2A4553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4B91D-C49E-4ADC-A961-7F2593D26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A04B-1390-48EE-B95E-B3F6E0112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ACAC-458F-4CAA-B9C8-504F2E50B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BE35-A239-4486-A56D-EC9DC822E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F0A1-EBBE-48C0-AC53-CF366C79F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68CE-8208-40C5-B425-16A6F1FA9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F45C-8F96-4733-B469-AB65F8A7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0443-96B6-46C7-8B2E-6DA7280D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5DF2-1DE3-4A6A-8557-31761F2F8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99D5-8B9B-4D6B-BE6A-6233765C2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3" end="3"/>
                                            </p:txEl>
                                          </p:spTgt>
                                        </p:tgtEl>
                                        <p:attrNameLst>
                                          <p:attrName>style.visibility</p:attrName>
                                        </p:attrNameLst>
                                      </p:cBhvr>
                                      <p:to>
                                        <p:strVal val="visible"/>
                                      </p:to>
                                    </p:set>
                                    <p:anim calcmode="lin" valueType="num">
                                      <p:cBhvr additive="repl">
                                        <p:cTn id="8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