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4D4AD-570B-4601-BA55-16A2D8658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34B6E-C6E6-4411-B3CE-E988175F3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B6182-5BF6-4F62-9556-5C4C3DEE5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51524-BED0-44B6-AAE6-B279FCCBE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FB977-75A0-4BD6-978D-C73B20512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7E350-99F7-4A23-9F34-678000BE4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08628-1118-4D94-8A8C-3F4807D92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B202D-D561-4B95-AE1E-42BBF0B95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218A2-FDF6-420B-9720-8CC8BBCA5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57EC5-F422-479A-9CC0-13BA4CC4D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B77E0-50DF-4DC2-8A27-043B5D06C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C1189-2690-49C1-BED3-B9584A0DF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D182-B408-43DC-A077-419F79EDDA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0" fill="hold"/>
                                        <p:tgtEl>
                                          <p:spTgt spid="55">
                                            <p:txEl>
                                              <p:pRg st="1" end="1"/>
                                            </p:txEl>
                                          </p:spTgt>
                                        </p:tgtEl>
                                        <p:attrNameLst>
                                          <p:attrName>ppt_w</p:attrName>
                                        </p:attrNameLst>
                                      </p:cBhvr>
                                      <p:tavLst>
                                        <p:tav tm="0">
                                          <p:val>
                                            <p:strVal val="#ppt_w"/>
                                          </p:val>
                                        </p:tav>
                                        <p:tav tm="100000">
                                          <p:val>
                                            <p:strVal val="#ppt_w"/>
                                          </p:val>
                                        </p:tav>
                                      </p:tavLst>
                                    </p:anim>
                                    <p:anim calcmode="lin" valueType="num">
                                      <p:cBhvr additive="repl">
                                        <p:cTn id="79" dur="5000" fill="hold"/>
                                        <p:tgtEl>
                                          <p:spTgt spid="55">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wedge" transition="in">
                                      <p:cBhvr additive="repl">
                                        <p:cTn id="84" dur="20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1000" fill="hold"/>
                                        <p:tgtEl>
                                          <p:spTgt spid="55">
                                            <p:txEl>
                                              <p:pRg st="3" end="3"/>
                                            </p:txEl>
                                          </p:spTgt>
                                        </p:tgtEl>
                                        <p:attrNameLst>
                                          <p:attrName>ppt_w</p:attrName>
                                        </p:attrNameLst>
                                      </p:cBhvr>
                                      <p:tavLst>
                                        <p:tav tm="0">
                                          <p:val>
                                            <p:strVal val="#ppt_w+.3"/>
                                          </p:val>
                                        </p:tav>
                                        <p:tav tm="100000">
                                          <p:val>
                                            <p:strVal val="#ppt_w"/>
                                          </p:val>
                                        </p:tav>
                                      </p:tavLst>
                                    </p:anim>
                                    <p:anim calcmode="lin" valueType="num">
                                      <p:cBhvr additive="repl">
                                        <p:cTn id="90"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1" dur="1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