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AA43F-27DA-4D39-930D-77A0AE1AB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4E8DE-A1AB-4CD6-9C2F-0D5DA2D44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682DD-7645-4021-A50D-86DC67267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DB179-B48A-490F-9C24-D3481DC2F4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1C830-F670-4342-BC19-57957D58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0531-BEAD-4E1B-8997-A23167235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E8F7D-1208-4202-8CCF-A07BD7E57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9E727-59BD-448D-807C-2BF080BB8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1744F-9CC6-4764-846C-E0E31E956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F21E3-DA20-4897-AF5D-9BBE59FE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81D0E-E7EF-4274-990B-5660FD2D3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808EB-D5AD-41D7-91D9-7E2AB0E87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1E5B-ED7E-4791-854E-3CC694E553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 dur="500" fill="hold"/>
                                        <p:tgtEl>
                                          <p:spTgt spid="5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 dur="500" fill="hold"/>
                                        <p:tgtEl>
                                          <p:spTgt spid="5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3" dur="1000" fill="hold"/>
                                        <p:tgtEl>
                                          <p:spTgt spid="55">
                                            <p:txEl>
                                              <p:pRg st="3" end="3"/>
                                            </p:txEl>
                                          </p:spTgt>
                                        </p:tgtEl>
                                        <p:attrNameLst>
                                          <p:attrName>r</p:attrName>
                                        </p:attrNameLst>
                                      </p:cBhvr>
                                      <p:tavLst>
                                        <p:tav tm="0">
                                          <p:val>
                                            <p:strVal val="90"/>
                                          </p:val>
                                        </p:tav>
                                        <p:tav tm="100000">
                                          <p:val>
                                            <p:strVal val="0"/>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