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92460-8D9B-460E-91DA-1BA266C79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1C7A-F7EA-4F03-99F3-B19B1F1F1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FF098-1374-482E-B9E0-E6DA27B11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7B7B0-AB7D-4B21-95F2-CA1CB3E5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36F2-A35D-448E-A94B-FFDEBB9E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6C07-08DA-4724-8091-83447211F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6822-CB01-44A2-9DDF-A4B15759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5978-E398-4A8A-8668-2DE851DE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202A-6513-4AB0-A20B-1D0FF084E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0B92-FFF9-4D2B-B4A5-434C0258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8455-82AE-4FE9-8B22-7E1938952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3B97-C9AF-45EB-B2C4-C9786C2AB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C31A-8303-4E4A-A1BF-DF04E2AF8E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ppt_h/2"/>
                                          </p:val>
                                        </p:tav>
                                        <p:tav tm="100000">
                                          <p:val>
                                            <p:strVal val="#ppt_y"/>
                                          </p:val>
                                        </p:tav>
                                      </p:tavLst>
                                    </p:anim>
                                    <p:anim calcmode="lin" valueType="num">
                                      <p:cBhvr additive="repl">
                                        <p:cTn id="94" dur="5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