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F6562-065C-40F4-91DB-B7374E252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2AECC-DA31-409E-8931-293AD937B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0E7BB-72F7-4F2A-ACEF-E621BCC9D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FC191-2E04-4F37-9C9E-C447F2EFA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99BE9-ABDC-4114-962E-E21066B14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7CC81-87A7-4573-9D98-CC791C2CE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721D5-38BA-4B7C-AA7A-63D6732C5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CA140-799F-454F-9398-1BA6F34AB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AC10F-D3AE-45BE-98D0-B8E722ACE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AC6B9-CD09-4A7E-A888-D4ACBB888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505EF-680B-41E4-ACE9-18197981A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C328A-788F-4AB8-ADE7-36BD3B293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282DE-80F9-4A45-A096-DE1BF575D9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55">
                                            <p:txEl>
                                              <p:pRg st="1" end="1"/>
                                            </p:txEl>
                                          </p:spTgt>
                                        </p:tgtEl>
                                        <p:attrNameLst>
                                          <p:attrName>ppt_y</p:attrName>
                                        </p:attrNameLst>
                                      </p:cBhvr>
                                      <p:tavLst>
                                        <p:tav tm="0">
                                          <p:val>
                                            <p:strVal val="#ppt_y"/>
                                          </p:val>
                                        </p:tav>
                                        <p:tav tm="100000">
                                          <p:val>
                                            <p:strVal val="#ppt_y"/>
                                          </p:val>
                                        </p:tav>
                                      </p:tavLst>
                                    </p:anim>
                                    <p:animEffect filter="wipe(right)"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randombar(horizontal)" transition="in">
                                      <p:cBhvr additive="repl">
                                        <p:cTn id="91" dur="5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