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B3FD6-B13A-4204-BC26-049A8603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0AD9F-A13C-498E-850F-6C5D3D5CF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EB20E-552B-4831-9C98-603D510ED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BB4DB-5610-4239-875F-A2D6C9403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36F44-FB7B-499A-9D73-E3C2A96D6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4312-9B09-4D6C-9E69-7D000C85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D970-F402-4BB4-BF1E-E1931BDB7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62664-61EF-495E-A360-C073ED5E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E299-BDE0-4B3C-9968-0E1111E1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E172-5285-4E56-8E8F-1AE662ACE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814E-69D8-4C75-8F20-E0EED1CE1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5BCB-803D-4277-B9CD-50D1E337D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1F8F-6C81-4034-9C3E-05CBD26F5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000">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fade" transition="in">
                                      <p:cBhvr additive="repl">
                                        <p:cTn id="87" dur="20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