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7315E-2376-494B-A0BE-169B44BEB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FB1F-6756-4534-96CF-9DB99AAD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74A46-42B4-41BF-A91A-B4D9D8D40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D8B0B-3EF5-4E48-A67B-7D36874CE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FB3E-AC36-4AC2-A018-E7024D42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B769F-0D43-4E90-8C3E-45F4BD2EB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EF80-D7BC-46EE-A810-4EDBDF2D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E8EC-8C67-42D8-9A08-9C604981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833FB-972D-42DF-AB9F-5ADD965EE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0B8E-B818-4DA9-B009-40DEBCAB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1F3E5-170C-404C-AD0B-DB8307500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E4585-E693-42FA-A558-A42E84F0F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8F3C-F39B-4BE0-8E2F-4F4DBF3A2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Scale>
                                      <p:cBhvr>
                                        <p:cTn id="84"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55">
                                            <p:txEl>
                                              <p:pRg st="2" end="2"/>
                                            </p:txEl>
                                          </p:spTgt>
                                        </p:tgtEl>
                                      </p:cBhvr>
                                    </p:animMotion>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