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3F60-8C78-48FD-8212-2AADC49B5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9B08-D9AD-4599-BB3C-FA5581A4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801AF-4092-454F-A464-6FDCFCF12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8E392-1A87-417B-A85A-6DAB98A37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8FCE6-D722-4163-B0E6-2EDEF67C5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B98B-1974-4BBC-9C6A-D99D64C7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73A9-4237-4334-97C2-04DC6FB0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F469-D29F-4A8A-8164-711F27394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31EC-1587-42D7-91A7-39C14BCCA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65AB-0377-438A-9DB3-26263FE6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BF76-F38C-4540-BB4D-E0952BA7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9C57-2111-4A0E-9E31-3D5E343C7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6F45-38B3-4354-BC5B-9D3556291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78" dur="2000"/>
                                        <p:tgtEl>
                                          <p:spTgt spid="55">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 calcmode="lin" valueType="num">
                                      <p:cBhvr additive="repl">
                                        <p:cTn id="83"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