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BF8FC-D1FF-47C4-8913-9BF4B1999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994E0-67D2-4AD9-9DD2-AC14102E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6FD96-B6BF-4788-B331-B53EAAEA4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DCE7A-D0D1-4632-8D3F-B162D36DA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8CEE8-5D37-469E-8D74-5CD87E16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A38B-EA5D-4180-82F6-0E1FFFD42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32D8-8DD6-4A6E-B65F-E498D925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EEB6-EDAA-43FC-974D-74241C30D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471A-709E-4518-9622-4B75C63D6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198B-8A35-4543-B6CC-E10F5DEEC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267D-96C6-4AA2-A057-F66D1D07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B6C2-21FE-42B8-A176-9FAAF0ECA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C048-59F0-48A4-992C-674889DC9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000">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strips(upLeft)" transition="in">
                                      <p:cBhvr additive="repl">
                                        <p:cTn id="89" dur="5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