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E4844-BBF9-4B21-8B90-D6820842A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0793D-BF1C-4BB1-B2E0-221E1F0A5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F500E-872E-4BE8-B88E-4EA10DE1E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91A6A-A894-4D0F-B8AB-5DDBC534E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D8A7A-5487-459F-868A-819B2C669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8F62E-F9DB-4CBD-9652-EF5D843C4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17342-C736-48B8-AF65-AFB4A1C49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94552-9EC8-4AA7-B8E8-CA96182B5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F5389-8737-4FB8-ADCE-C851B5E2C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19744-832D-4F3B-882D-418B41DD0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FD128-A6A4-46FB-AE84-CE0303F80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BF2C7-BC72-4C9E-81BB-17FE89CD8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40CF7-EBF0-46A5-90C5-07FD45C07A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lide(fromBottom)"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0" fill="hold"/>
                                        <p:tgtEl>
                                          <p:spTgt spid="55">
                                            <p:txEl>
                                              <p:pRg st="2" end="2"/>
                                            </p:txEl>
                                          </p:spTgt>
                                        </p:tgtEl>
                                        <p:attrNameLst>
                                          <p:attrName>ppt_w</p:attrName>
                                        </p:attrNameLst>
                                      </p:cBhvr>
                                      <p:tavLst>
                                        <p:tav tm="0">
                                          <p:val>
                                            <p:strVal val="#ppt_w"/>
                                          </p:val>
                                        </p:tav>
                                        <p:tav tm="100000">
                                          <p:val>
                                            <p:strVal val="#ppt_w"/>
                                          </p:val>
                                        </p:tav>
                                      </p:tavLst>
                                    </p:anim>
                                    <p:anim calcmode="lin" valueType="num">
                                      <p:cBhvr additive="repl">
                                        <p:cTn id="84" dur="5000" fill="hold"/>
                                        <p:tgtEl>
                                          <p:spTgt spid="55">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0"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1" dur="5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