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48BEF-EBA4-461D-9DE3-624A9A633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99004-2584-476E-AABC-77022D409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794C3-5C60-4A11-97F7-164E732A5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75680-DCEE-406E-9E64-8B115263E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065C9-F312-4394-88E3-32E98F4D8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A55D3-D675-4562-A6C8-1DD8689F9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712C4-3290-40CB-AF14-44BEFB0ED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5F4A3-1E4F-4BE7-9CF7-04300778E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36E82-458C-4F09-A8F3-6CF36BE9E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80D9-A4C7-4247-BE3A-93D642588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D79E3-93FC-4020-BF3B-07EBA7A27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72E1-3787-466A-8B54-F7F26E8DB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E934-6AA7-4C9C-B89B-269F1DDD4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discrete" valueType="clr">
                                      <p:cBhvr additive="repl">
                                        <p:cTn id="78"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5">
                                            <p:txEl>
                                              <p:pRg st="1" end="1"/>
                                            </p:txEl>
                                          </p:spTgt>
                                        </p:tgtEl>
                                        <p:attrNameLst>
                                          <p:attrName>fillcolor</p:attrName>
                                        </p:attrNameLst>
                                      </p:cBhvr>
                                      <p:tavLst>
                                        <p:tav tm="0">
                                          <p:val>
                                            <p:strVal val="rgb(-103,51,51)"/>
                                          </p:val>
                                        </p:tav>
                                        <p:tav tm="50000">
                                          <p:val>
                                            <p:strVal val="rgb(-103,-103,0)"/>
                                          </p:val>
                                        </p:tav>
                                      </p:tavLst>
                                    </p:anim>
                                    <p:set>
                                      <p:cBhvr>
                                        <p:cTn id="80" dur="80"/>
                                        <p:tgtEl>
                                          <p:spTgt spid="55">
                                            <p:txEl>
                                              <p:pRg st="1" end="1"/>
                                            </p:txEl>
                                          </p:spTgt>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6"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