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AF601-E0B4-4D28-B529-F533D720D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9E386-2BFB-4920-8DDE-713B9E669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F09AB-5DAA-41C1-8071-3E02814F5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E0FF5-D332-4B8D-9A60-92858F51A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ADB82-C57E-4ECC-A024-FB95FDDF4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24F45-E5AF-429C-A342-B7D1112A7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850B4-F5C0-4CCE-B13A-14EE9F085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3E788-9F72-42F2-8C0E-70FAD2C2E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95A28-9762-4C09-8368-95A3693BB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2EFC3-0017-4DA5-B373-4F2FE09C4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A5475-1F25-4CC1-B5A6-2E13B9DB4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3AFE1-75F1-4253-ADE4-A4A72CC05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BDAD-82A6-45F0-999B-454E52217F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8"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9" dur="10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500" fill="hold"/>
                                        <p:tgtEl>
                                          <p:spTgt spid="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 dur="500" fill="hold"/>
                                        <p:tgtEl>
                                          <p:spTgt spid="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 dur="500" fill="hold"/>
                                        <p:tgtEl>
                                          <p:spTgt spid="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