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530A7-1DDC-4A05-A79B-66BBA43EE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66859-2EA3-44F0-AC29-D5498B4F8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EC87D-EC3C-404C-94E1-6231AD80E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D6B7E-BF21-4412-B3A7-4102E59E2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C9B7E-E2D8-4B72-8D12-A926B7F9D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E82BA-9088-498A-B413-5E9862CAE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796B6-FA0A-4A4C-8F12-20263765D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01DB9-89D6-48EB-BCF5-6CF34236B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CC8E2-D8AA-418A-9506-75FD6401A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ED6AB-3B15-49E2-B9B4-4D5B5A1F2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FAC97-F114-40DC-8501-518F313DF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87FA4-076E-4648-A0D0-5DF48FDB3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68415-89A9-4BD8-90E1-718A0AE6E7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trips(downLef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anim calcmode="lin" valueType="num">
                                      <p:cBhvr additive="repl">
                                        <p:cTn id="84"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strips(downRight)" transition="in">
                                      <p:cBhvr additive="repl">
                                        <p:cTn id="90" dur="5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