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3C928-A276-4D58-8214-798E2D37E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4C3DE-0E68-4A55-9014-6C3B5ED32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6342F-9653-473E-B63A-FB57B70B2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1D7F3-7C3C-4FD4-B7A2-967369990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3549-DA07-41C7-B8F3-C250032D2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D614-14EB-4462-8490-8E9B4C3D3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1C26-48C1-424D-BFE9-3C0E0DB60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9094E-0EFF-48FB-9DA9-B82B4E96F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B46E6-E28C-4E05-A73F-625AD382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7D7C-411F-4253-8353-3DC90BCC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F978-8D84-4BD8-A2FB-3E2B8F7F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6582-5FC5-4A25-879E-D33E53214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03F9-61DE-4D69-926E-6715CA1DA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500" fill="hold"/>
                                        <p:tgtEl>
                                          <p:spTgt spid="55">
                                            <p:txEl>
                                              <p:pRg st="2" end="2"/>
                                            </p:txEl>
                                          </p:spTgt>
                                        </p:tgtEl>
                                        <p:attrNameLst>
                                          <p:attrName>ppt_w</p:attrName>
                                        </p:attrNameLst>
                                      </p:cBhvr>
                                      <p:tavLst>
                                        <p:tav tm="0">
                                          <p:val>
                                            <p:strVal val="4*#ppt_w"/>
                                          </p:val>
                                        </p:tav>
                                        <p:tav tm="100000">
                                          <p:val>
                                            <p:strVal val="#ppt_w"/>
                                          </p:val>
                                        </p:tav>
                                      </p:tavLst>
                                    </p:anim>
                                    <p:anim calcmode="lin" valueType="num">
                                      <p:cBhvr additive="repl">
                                        <p:cTn id="90" dur="500" fill="hold"/>
                                        <p:tgtEl>
                                          <p:spTgt spid="55">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