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6CDC5-87C9-4E12-876F-54C71675D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50A85-388E-4A6E-9593-520C3635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D7FD1-A4B3-402F-9752-DD70FBCD0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26647-91E0-4B72-9355-0856FD427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B9990-E8FF-4CE6-A280-583BD7699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70832-0A9D-4B68-A8AE-96A9184BF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98898-7D7D-4183-8130-86E38D705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16672-BBD1-4088-8B1B-11D6A6A4D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E8B2C-A71B-4C4B-A850-5B9F23E96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7C295-F641-470B-B904-756424982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BB8BF-331A-477E-B0A0-27EC6365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5B4FF-0D4A-4B46-A0C7-EAE6232ED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68A3-76D0-4739-AA71-B7871D7FFE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5000" fill="hold"/>
                                        <p:tgtEl>
                                          <p:spTgt spid="5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set>
                                      <p:cBhvr>
                                        <p:cTn id="92" dur="455" fill="hold">
                                          <p:stCondLst>
                                            <p:cond delay="0"/>
                                          </p:stCondLst>
                                        </p:cTn>
                                        <p:tgtEl>
                                          <p:spTgt spid="55">
                                            <p:txEl>
                                              <p:pRg st="3" end="3"/>
                                            </p:txEl>
                                          </p:spTgt>
                                        </p:tgtEl>
                                        <p:attrNameLst>
                                          <p:attrName>r</p:attrName>
                                        </p:attrNameLst>
                                      </p:cBhvr>
                                      <p:to>
                                        <p:strVal val="-45"/>
                                      </p:to>
                                    </p:set>
                                    <p:anim calcmode="lin" valueType="num">
                                      <p:cBhvr additive="repl">
                                        <p:cTn id="93"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4"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5"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6"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