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7A8CA-A5E7-4719-BB6A-7247F846B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38D49-2B4C-4A30-8688-4720F5426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9214B-B07A-40B1-82F6-A7BD69283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12D43-4B5F-4676-AF8E-4F5B9C7A9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616D-0F66-4D27-8B1D-C180BF256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29D1A-990F-41BC-BED8-AA58E7659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78843-9FC7-4C40-AC05-B8BF2DE2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F39E-EAA2-4EF7-AEF3-F44176D7F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7B28-35D3-4082-A341-9991C010C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53992-83F2-4075-B98E-7598CA57E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92D3-2B56-4F7A-9FBB-166417398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B76C7-E26A-4CA0-9181-2F247FC71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DA87-D556-4462-A08C-043E78786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8"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set>
                                      <p:cBhvr>
                                        <p:cTn id="94" dur="455" fill="hold">
                                          <p:stCondLst>
                                            <p:cond delay="0"/>
                                          </p:stCondLst>
                                        </p:cTn>
                                        <p:tgtEl>
                                          <p:spTgt spid="55">
                                            <p:txEl>
                                              <p:pRg st="3" end="3"/>
                                            </p:txEl>
                                          </p:spTgt>
                                        </p:tgtEl>
                                        <p:attrNameLst>
                                          <p:attrName>r</p:attrName>
                                        </p:attrNameLst>
                                      </p:cBhvr>
                                      <p:to>
                                        <p:strVal val="-45"/>
                                      </p:to>
                                    </p:set>
                                    <p:anim calcmode="lin" valueType="num">
                                      <p:cBhvr additive="repl">
                                        <p:cTn id="95"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6"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7"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8"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