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57A6D-C84F-45E3-9822-180076191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F3845-2ECC-43DF-BF51-A396988A9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946BF-2830-40E3-9ECF-0A85F3951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411DD-63C4-4285-8D5E-922FB7EF2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B0601-2DBC-427C-B5BF-76A8426F7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7E7C1-6583-4838-9E10-8C33C8EAC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873D4-8D9E-4B9F-A242-58D6B8D99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7CDD8-D5E8-4BCE-8FAE-0EFFD7167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26D17-3FED-4A6A-92CC-271B403D4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8636B-210A-434B-B46D-59436207E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9D3B4-264D-4220-8343-B4F33F67E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DD981-FCD5-44E3-9C16-4FBECB8AC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6CB5-59E6-44A6-96B0-40394130A2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wedge"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discrete" valueType="clr">
                                      <p:cBhvr additive="repl">
                                        <p:cTn id="90" dur="80"/>
                                        <p:tgtEl>
                                          <p:spTgt spid="5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91" dur="80"/>
                                        <p:tgtEl>
                                          <p:spTgt spid="55">
                                            <p:txEl>
                                              <p:pRg st="3" end="3"/>
                                            </p:txEl>
                                          </p:spTgt>
                                        </p:tgtEl>
                                        <p:attrNameLst>
                                          <p:attrName>fillcolor</p:attrName>
                                        </p:attrNameLst>
                                      </p:cBhvr>
                                      <p:tavLst>
                                        <p:tav tm="0">
                                          <p:val>
                                            <p:strVal val="rgb(-103,51,51)"/>
                                          </p:val>
                                        </p:tav>
                                        <p:tav tm="50000">
                                          <p:val>
                                            <p:strVal val="rgb(-103,-103,0)"/>
                                          </p:val>
                                        </p:tav>
                                      </p:tavLst>
                                    </p:anim>
                                    <p:set>
                                      <p:cBhvr>
                                        <p:cTn id="92" dur="80"/>
                                        <p:tgtEl>
                                          <p:spTgt spid="55">
                                            <p:txEl>
                                              <p:pRg st="3" end="3"/>
                                            </p:txEl>
                                          </p:spTgt>
                                        </p:tgtEl>
                                        <p:attrNameLst>
                                          <p:attrName>fill.type</p:attrName>
                                        </p:attrNameLst>
                                      </p:cBhvr>
                                      <p:to>
                                        <p:strVal val="solid"/>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