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36597-93F7-47F9-B015-918E9BAEB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4EA7C-AD32-48E7-845B-F5F8D6055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0E689-2DAC-49AD-A8CE-054A56B97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DD6FE-3A57-4B2D-B03C-6ABE5C582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D9B6-A9DF-4C83-BEE5-157A256A7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4518-9D0D-4678-B5B5-EB4DE6FA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3311-A7F3-4286-8CC1-DFDC7A58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FA12B-B2C0-4642-A856-D7BFA5B4D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17FC-5E43-4EF4-8BDB-F07E30557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4D976-9F4C-4A68-AB68-E3A6A8277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CEBD4-24AE-449E-9907-1418FCD06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F3EE-E833-4447-BC54-0A202B600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BE43-9C8D-413A-81AB-89C0A6598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0.5"/>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Scale>
                                      <p:cBhvr>
                                        <p:cTn id="86"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55">
                                            <p:txEl>
                                              <p:pRg st="2" end="2"/>
                                            </p:txEl>
                                          </p:spTgt>
                                        </p:tgtEl>
                                      </p:cBhvr>
                                    </p:animMotion>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5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