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D3008-E8D9-4DC5-A141-B95C5234C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C17AA-C230-4EB5-AAD2-14E2ED98D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C3638-A960-4D8A-9E4F-D4C2B0990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78F78-3810-491D-832A-C131DB67A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F71E4-98BB-4A3E-903D-7200310FC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A8258-646B-491B-84BF-445881D5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56B6E-A6F8-4A61-919B-8B43485F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A7858-EEA6-48FE-BFC2-9070AA7C0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A90F1-A605-4837-BFED-E92656987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7D261-2A85-485E-BF28-9134EC0EC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93463-E805-4252-898B-F64C3AFF6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70B68-F46E-437D-AFD7-9B1EFDF6F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5E68-E778-4540-B456-97B73836EC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circle(out)"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wedge" transition="in">
                                      <p:cBhvr additive="repl">
                                        <p:cTn id="88" dur="2000"/>
                                        <p:tgtEl>
                                          <p:spTgt spid="5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