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1B8F7-4B05-4292-9B33-40CC1298A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D33C6-1CDB-4B94-9C7B-D854C76DA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A9542-F10C-4C63-905F-33224A66D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3A6AD-2854-4F6E-B16A-E4DC27A11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455F-E9D9-42FB-8222-04A542A35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2CC9-6CF9-44E8-B48B-14B4C2392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F5A05-329C-4DC6-BC7E-8463818A1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43EA3-81A4-4CEA-9D62-10B2EC60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A92CD-596D-42C4-AA7E-9FCBB615B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CF1D4-034E-4E6E-8262-CBDC0AAA3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6DD46-5783-4C07-8586-A59B2C669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44A3-3AF7-471A-8E5C-2649AB77F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302D-B44B-463F-9B13-ED693272D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2000"/>
                                        <p:tgtEl>
                                          <p:spTgt spid="55">
                                            <p:txEl>
                                              <p:pRg st="3" end="3"/>
                                            </p:txEl>
                                          </p:spTgt>
                                        </p:tgtEl>
                                      </p:cBhvr>
                                    </p:animEffect>
                                    <p:anim calcmode="lin" valueType="num">
                                      <p:cBhvr additive="repl">
                                        <p:cTn id="94"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5"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