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A4360-4D63-43F8-B91B-890290FBD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67144-4404-418D-85D3-3FF1A13CD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00393-D4F1-4DB8-A099-28D783C57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0E602-FC8B-4D09-A3AE-450C31274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FFB9A-DA84-4870-A329-8DA55D60A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E8383-B610-49CB-87E2-357F412AD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9B9A5-5BF5-4216-BFB7-65A2DBFD4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F6864-9811-494C-A142-3155C058D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45BA6-1D8C-4B54-8E20-D4ED20420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A218B-D601-4D6E-8B65-81B9B519F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6C845-FF15-444C-BCF3-D083BC182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9047D-F23D-4FE9-AC8A-ADFE331B1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8AC11-D2A5-4388-B861-7DFC125DD8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1000"/>
                                        <p:tgtEl>
                                          <p:spTgt spid="55">
                                            <p:txEl>
                                              <p:pRg st="3" end="3"/>
                                            </p:txEl>
                                          </p:spTgt>
                                        </p:tgtEl>
                                      </p:cBhvr>
                                    </p:animEffect>
                                    <p:anim calcmode="lin" valueType="num">
                                      <p:cBhvr additive="repl">
                                        <p:cTn id="91"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2" dur="900" fill="hold"/>
                                        <p:tgtEl>
                                          <p:spTgt spid="55">
                                            <p:txEl>
                                              <p:pRg st="3" end="3"/>
                                            </p:txEl>
                                          </p:spTgt>
                                        </p:tgtEl>
                                        <p:attrNameLst>
                                          <p:attrName>ppt_y</p:attrName>
                                        </p:attrNameLst>
                                      </p:cBhvr>
                                      <p:tavLst>
                                        <p:tav tm="0">
                                          <p:val>
                                            <p:strVal val="#ppt_y+1"/>
                                          </p:val>
                                        </p:tav>
                                        <p:tav tm="100000">
                                          <p:val>
                                            <p:strVal val="#ppt_y-.03"/>
                                          </p:val>
                                        </p:tav>
                                      </p:tavLst>
                                    </p:anim>
                                    <p:anim calcmode="lin" valueType="num">
                                      <p:cBhvr additive="repl">
                                        <p:cTn id="93" dur="100" fill="hold">
                                          <p:stCondLst>
                                            <p:cond delay="900"/>
                                          </p:stCondLst>
                                        </p:cTn>
                                        <p:tgtEl>
                                          <p:spTgt spid="5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