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39B36-164D-413D-BB83-323F24C6A7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05025-4CC6-4B74-9895-62700D1AB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27449-CD5F-489A-8FFD-DD41E3E77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0D816F-089C-4BB8-A070-9D9B91A88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C4E290-74A2-4592-BF2A-2C77575E1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7DEE-5B58-4E48-8D3D-0C7F21AE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59622-C98F-40A8-A494-F596E1A72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3028F-3642-4A65-AFC4-92CE987B9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D1C38-4935-4B6A-88AD-9D78D0863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FB2AC-4786-4F86-A9EB-84A718988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2E4D8-4A37-416F-AEC9-6F373EDB7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F7EB4-7FE8-4FAD-AD10-F3197A204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FA55-3782-4356-8006-345796E2F8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repl">
                                        <p:cTn id="79"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anim calcmode="lin" valueType="num">
                                      <p:cBhvr additive="repl">
                                        <p:cTn id="86" dur="500" fill="hold"/>
                                        <p:tgtEl>
                                          <p:spTgt spid="55">
                                            <p:txEl>
                                              <p:pRg st="2" end="2"/>
                                            </p:txEl>
                                          </p:spTgt>
                                        </p:tgtEl>
                                        <p:attrNameLst>
                                          <p:attrName>r</p:attrName>
                                        </p:attrNameLst>
                                      </p:cBhvr>
                                      <p:tavLst>
                                        <p:tav tm="0">
                                          <p:val>
                                            <p:strVal val="360"/>
                                          </p:val>
                                        </p:tav>
                                        <p:tav tm="100000">
                                          <p:val>
                                            <p:strVal val="0"/>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