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8843C-8E41-4E1A-9CEE-2B5194BE1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B51A-4CAE-4F2B-BAAB-14C1FE4F4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109C0-7D31-43F1-8111-91E33B1BE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A948A-1A85-4FCD-8604-71FB5426F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1C53A-11DF-45FC-8DBF-77493FD72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F432-70FD-4728-9E9B-2DD9DA89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74A0-A143-40B5-ACDE-643FDBA2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3B4C-3614-4DCA-8CBB-F3667730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CA614-68B6-4B8C-A6E2-00CF0577C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DF0E-BDDB-40AB-B659-1278BEEC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7BD12-0DEA-44C4-8C22-F6993CD04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5071-85AA-4C80-AC64-84BF36D26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06E6-B8F8-443F-823B-33CD32738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Scale>
                                      <p:cBhvr>
                                        <p:cTn id="95"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55">
                                            <p:txEl>
                                              <p:pRg st="3" end="3"/>
                                            </p:txEl>
                                          </p:spTgt>
                                        </p:tgtEl>
                                      </p:cBhvr>
                                    </p:animMotion>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