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6AC2E-D40C-4CA8-863B-DB95006BD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85341-3D3C-4EAF-8549-55E59304E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ACDD9-2C3C-44F3-8163-0EE45CF9A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D3B05-76E0-4D83-830B-5C1DE1F4C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AB356-4901-4B50-8063-3D2D8B80D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8B455-1BFE-405B-9FF0-86EAC5E94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B2840-07B7-471C-8575-F3EAD62E5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22161-11E4-4678-A475-F510022BD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6DA10-D384-4804-A095-01FDF9F37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037EA-4056-4F0B-99E7-BE653E5D1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95F8-CEAD-477C-97E1-B37D3A13D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02A5-5252-497E-BDFC-742B0740D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3A62-1943-4771-AB95-F4AD47DF7A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1000"/>
                                        <p:tgtEl>
                                          <p:spTgt spid="55">
                                            <p:txEl>
                                              <p:pRg st="3" end="3"/>
                                            </p:txEl>
                                          </p:spTgt>
                                        </p:tgtEl>
                                      </p:cBhvr>
                                    </p:animEffect>
                                    <p:anim calcmode="lin" valueType="num">
                                      <p:cBhvr additive="repl">
                                        <p:cTn id="92"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3"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