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87837-4F41-4594-AE04-E55A1716F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DAE00-293D-40F8-881B-B99F90DDE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EAAB5-5165-4156-935F-109FC980B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26106-6947-4A5E-AD61-71C893C54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6E1CD-5F14-41FD-B8AE-377D90EBD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3AD38-85EB-4A55-8DC1-F948FE44D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10D4F-EE75-4864-AF7F-CCFCECBEB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8EF1A-F6E8-4274-80B5-3311F2E4C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20353-7214-4698-BFDE-AD16AB019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BF944-FE5C-4504-A65E-BD3178222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3929E-EF79-4E27-A188-AB73AB4CA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CABD1-0348-4714-A82A-5ACC122E4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593D-E7F4-4D75-8507-F8F3A092F0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Scale>
                                      <p:cBhvr>
                                        <p:cTn id="78" dur="1000" fill="hold">
                                          <p:stCondLst>
                                            <p:cond delay="0"/>
                                          </p:stCondLst>
                                        </p:cTn>
                                        <p:tgtEl>
                                          <p:spTgt spid="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55">
                                            <p:txEl>
                                              <p:pRg st="1" end="1"/>
                                            </p:txEl>
                                          </p:spTgt>
                                        </p:tgtEl>
                                      </p:cBhvr>
                                    </p:animMotion>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plus(out)" transition="in">
                                      <p:cBhvr additive="repl">
                                        <p:cTn id="92" dur="2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