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EDA71-4C2B-4F2E-BCFC-1EA3AA159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88E58-573F-4959-9975-3A7A6E651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C011B-8490-42CD-B4B7-E0D86B334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DE8A3-F736-449E-9EFB-4CEA84426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0C717-531A-42D1-9038-C201A01AA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1D43A-18CF-4FE7-84CD-FE7F69202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21168-E097-43FF-AC59-C80308233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C3854-61A8-471F-A47E-33739E317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D493-3141-4932-8DA2-394B0248E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20D55-A280-4DF7-B359-4E5BCC82D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EFF2F-BA7F-437E-B61B-7879D6AC6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A1C7C-72C3-4DBD-8DCB-B9060D93E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DAE2-036D-4A17-BA5A-F4825F7DE2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anim calcmode="lin" valueType="num">
                                      <p:cBhvr additive="repl">
                                        <p:cTn id="93"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4"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