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3C7DF-56C9-4EEA-9D3C-697849097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D32F7-91B8-4BA0-8E78-6B6A8A9BF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2F46B-42B7-4F95-A7D7-4C6218C06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6DC2A-E38C-437F-ACCC-92535A6C4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C5AE3-AC47-4012-B32C-AE5BE8F3F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3281B-22B1-431F-83A6-01F1557F2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942CE-D4E9-4A46-8F64-6E0157A8F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3FD17-813A-485B-9F02-BDFAC8F1F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ECE81-913F-4D85-945D-C7A8FF26E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8DE2A-6A4C-4BBA-A76B-9145344AB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306B8-98DC-4839-ACD7-3DAE910E1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BE6C4-07DF-4EA2-ACD4-0C2BB1C5B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6108-0628-4465-B585-FE6534A40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9" dur="5000" fill="hold"/>
                                        <p:tgtEl>
                                          <p:spTgt spid="55">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blinds(vertical)" transition="in">
                                      <p:cBhvr additive="repl">
                                        <p:cTn id="84" dur="5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circle(in)" transition="in">
                                      <p:cBhvr additive="repl">
                                        <p:cTn id="89" dur="20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