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18C3F-5948-4BB0-B9FC-A844600C6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917A6-39CB-4C72-85E1-71D3B57B0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2A5EB-F433-4D4E-AD3C-93733DEC7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810EC-2A26-4B69-990E-44538A97D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C58ED-CCF1-4269-8632-4DB5A9728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EFBE3-DDE4-43FF-9510-2E1293001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36A99-D52E-4E8D-9576-09C64E0B8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86DBD-28F4-410B-A84B-229F17F7C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380F9-0DEF-42FF-A4E1-952EA3D74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9A510-F2AC-469E-AD0B-5E0E3851D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40599-6659-493B-B6CD-30BB70BE4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D376B-355D-4F67-9C5A-D1A3ABBFC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2BD5-9700-4DA9-823D-35AED724B5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circle(out)"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ppt_w*2.5"/>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ppt_h*0.01"/>
                                          </p:val>
                                        </p:tav>
                                        <p:tav tm="100000">
                                          <p:val>
                                            <p:strVal val="#ppt_h"/>
                                          </p:val>
                                        </p:tav>
                                      </p:tavLst>
                                    </p:anim>
                                    <p:anim calcmode="lin" valueType="num">
                                      <p:cBhvr additive="repl">
                                        <p:cTn id="92"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3" dur="500" fill="hold"/>
                                        <p:tgtEl>
                                          <p:spTgt spid="55">
                                            <p:txEl>
                                              <p:pRg st="3" end="3"/>
                                            </p:txEl>
                                          </p:spTgt>
                                        </p:tgtEl>
                                        <p:attrNameLst>
                                          <p:attrName>ppt_y</p:attrName>
                                        </p:attrNameLst>
                                      </p:cBhvr>
                                      <p:tavLst>
                                        <p:tav tm="0">
                                          <p:val>
                                            <p:strVal val="#ppt_h+1"/>
                                          </p:val>
                                        </p:tav>
                                        <p:tav tm="100000">
                                          <p:val>
                                            <p:strVal val="#ppt_y"/>
                                          </p:val>
                                        </p:tav>
                                      </p:tavLst>
                                    </p:anim>
                                    <p:animEffect filter="fade"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