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9F0E6-7C8F-4E11-A132-497ADDA0C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E9A5-AF1E-4350-9EB7-D869FD8CC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003C-AD8D-4537-B6F6-8716F23D0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DA153-4BBF-4C8D-ACBF-FC348857E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167F8-BB8B-4334-8EB8-7088C8E8A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DFAE-E13F-45AF-9E49-D013BD34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5EC8-41CB-4261-9EE2-FBB1FA602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E446-F0F3-4F76-AD0C-16B5C88FA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016C9-F59B-4B66-8BE4-46BCF141B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5D1C-DE3D-4A32-B309-C8D04E510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4D18E-CEBB-4D89-BADE-F5A6CF59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6AEE-C4CA-4434-9555-0F49437F2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1285-29B1-4DE7-89B9-A2C5C4776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circle(in)" transition="in">
                                      <p:cBhvr additive="repl">
                                        <p:cTn id="88" dur="20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