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133C8-8A5B-42E4-B15B-B269B753F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47529-6AE0-4D1A-912A-888AA084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AB823-2AA5-46CC-9623-47D090860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4BFB0-926A-4354-B927-BB81AA41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CF10-77AE-4731-8130-F2F902B7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E9394-5D3B-4C39-B14A-E2E576D0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3532-4173-4D9D-B08C-44660417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D7AB-3BA4-4540-ADED-96F349C4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E06C-4033-449E-B4CC-0242E57B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7F92-E33C-428B-A1E0-5B9E08C7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7843-B81F-4529-95FD-21752AFD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58A64-AC21-4104-A567-DA3107B53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6FE3-E6AE-458D-AB3D-984BA1288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0"/>
                                        <p:tgtEl>
                                          <p:spTgt spid="55">
                                            <p:txEl>
                                              <p:pRg st="3" end="3"/>
                                            </p:txEl>
                                          </p:spTgt>
                                        </p:tgtEl>
                                      </p:cBhvr>
                                    </p:animEffect>
                                    <p:anim calcmode="lin" valueType="num">
                                      <p:cBhvr additive="repl">
                                        <p:cTn id="9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