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15865-E650-400C-950F-080D7F29C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5EC0A-C42E-4359-A6FE-E47C97266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58F8E-56FC-47A4-8862-E8B9D74A8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308AC-E307-4795-8696-34BC1B91E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C2982-920D-4E26-9C97-CC646DC2D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6460E-66C6-4DB4-B5A2-DF4F05C9E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01B77-111E-419E-A364-234731B1D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E49AF-5560-438E-A376-4DE6ED438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51D6C-A21B-440C-9AEE-C027CB9BD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B7905-0FDE-4E48-A975-52B799203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BDD1F-A64E-4C07-89F9-BD93EBD1D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C6784-E89A-4436-9B52-D0A58F7F4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0F5AE-7C46-4820-A18A-8E223FD927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6" dur="500" fill="hold"/>
                                        <p:tgtEl>
                                          <p:spTgt spid="5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7" dur="500" fill="hold"/>
                                        <p:tgtEl>
                                          <p:spTgt spid="5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strips(downLeft)"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