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9E2A75-5CE8-41E6-A1D6-CCA90CD19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67C33-AF75-45E0-8E51-41B6F8D85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DAAEC-F024-4A6F-B8A9-1EB2783F3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A5D18-219A-4187-969F-28A91D2CB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0A54E-01E9-44AF-8FF0-7A5FCBA36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69B24-B49A-4C57-A624-53E9A0311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6C264-65A8-406B-B480-A37CF55DE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F6D98-79D6-4B78-AAEE-9736EA2BC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3B010-CDD4-4FCD-9EA3-C5AEBBBBE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2E355-9B71-4980-B2AB-3EE1F4E1E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619BE-22D8-44D0-9D1F-F33A8EEC8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EDB74-1A13-41A7-B752-9C36E037A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4E37-3815-4988-9EE2-316F974E1F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2/3*#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plus(in)"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 dur="500" fill="hold"/>
                                        <p:tgtEl>
                                          <p:spTgt spid="5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 dur="500" fill="hold"/>
                                        <p:tgtEl>
                                          <p:spTgt spid="5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