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03A3B-842B-4FDF-81A2-BC84F0C9B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1A256-CFDF-478A-9348-F468F588D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20C0D-BE32-4EA6-B7D2-D14A9D5EC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BFB92-E101-4B19-AD8C-5B5711DAB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87ED2-7DEF-4221-98E6-3B8551DD7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1C802-348C-4135-B29F-31B0CFA67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0CF5F-069D-4E64-999C-2E8F13479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ACEEB-261B-40FF-9FE9-356E6E31A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CBCEC-6482-4D65-A8E7-33F098724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AEB3F-8E10-4874-B85C-E8ED0EFE7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F2468-1517-472A-AE8F-46597AFEA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74FC1-3F1B-45CD-8708-0230B6BB9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03400-3C95-4CDE-B630-CBD57958BA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heel(3)"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5" dur="500" fill="hold"/>
                                        <p:tgtEl>
                                          <p:spTgt spid="55">
                                            <p:txEl>
                                              <p:pRg st="2" end="2"/>
                                            </p:txEl>
                                          </p:spTgt>
                                        </p:tgtEl>
                                        <p:attrNameLst>
                                          <p:attrName>r</p:attrName>
                                        </p:attrNameLst>
                                      </p:cBhvr>
                                      <p:tavLst>
                                        <p:tav tm="0">
                                          <p:val>
                                            <p:strVal val="360"/>
                                          </p:val>
                                        </p:tav>
                                        <p:tav tm="100000">
                                          <p:val>
                                            <p:strVal val="0"/>
                                          </p:val>
                                        </p:tav>
                                      </p:tavLst>
                                    </p:anim>
                                    <p:animEffect filter="fade"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Scale>
                                      <p:cBhvr>
                                        <p:cTn id="91" dur="1000" fill="hold">
                                          <p:stCondLst>
                                            <p:cond delay="0"/>
                                          </p:stCondLst>
                                        </p:cTn>
                                        <p:tgtEl>
                                          <p:spTgt spid="5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 dur="1000" fill="hold">
                                          <p:stCondLst>
                                            <p:cond delay="0"/>
                                          </p:stCondLst>
                                        </p:cTn>
                                        <p:tgtEl>
                                          <p:spTgt spid="55">
                                            <p:txEl>
                                              <p:pRg st="3" end="3"/>
                                            </p:txEl>
                                          </p:spTgt>
                                        </p:tgtEl>
                                      </p:cBhvr>
                                    </p:animMotion>
                                    <p:animEffect filter="fade" transition="in">
                                      <p:cBhvr additive="repl">
                                        <p:cTn id="93" dur="1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