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6F0CD-5021-4FD9-88CE-5C494E1BA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D9296-D198-4A39-BCF5-1A3B1F542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65F68-15A8-4788-9059-459A46E4B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60595-CA6A-4F38-A874-9097F8A0A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2DA8C-A97D-4F1C-8E37-C2F164699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0DF80-77D0-443C-B587-040583DF3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33242-3C54-4081-8965-BC283BFA1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A2DD6-B809-4B9A-9603-2C452D2D7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693A7-AF99-4B73-A77B-7C900F0B7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AFB52-91CB-4854-A2F8-5671F4D62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E09F3-FE17-4648-85C3-6277A222B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03CA9-B03F-4442-8CF7-BBE8AF5B8A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2685-C83A-40F3-9C3B-EE79F28275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84"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85"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7"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88"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89"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90" dur="1000">
                                          <p:stCondLst>
                                            <p:cond delay="0"/>
                                          </p:stCondLst>
                                        </p:cTn>
                                        <p:tgtEl>
                                          <p:spTgt spid="5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Effect filter="fade" transition="in">
                                      <p:cBhvr additive="repl">
                                        <p:cTn id="95" dur="1000"/>
                                        <p:tgtEl>
                                          <p:spTgt spid="55">
                                            <p:txEl>
                                              <p:pRg st="3" end="3"/>
                                            </p:txEl>
                                          </p:spTgt>
                                        </p:tgtEl>
                                      </p:cBhvr>
                                    </p:animEffect>
                                    <p:anim calcmode="lin" valueType="num">
                                      <p:cBhvr additive="repl">
                                        <p:cTn id="96"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7" dur="900" fill="hold"/>
                                        <p:tgtEl>
                                          <p:spTgt spid="55">
                                            <p:txEl>
                                              <p:pRg st="3" end="3"/>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900"/>
                                          </p:stCondLst>
                                        </p:cTn>
                                        <p:tgtEl>
                                          <p:spTgt spid="5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