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F9A04-7740-4A1F-80FD-33C7AEE1B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57556-4FB5-4911-B4D0-65BE86855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9D6C0-F6C4-411B-8F67-835E9EC3B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1BF4D-0A37-415A-9955-1248E5286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6342B-C490-4217-A92A-82F208A66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2DD03-7A32-4787-B370-96CF80514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F2860-E400-4278-A6E0-430311621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65B8B-B2E0-4F7A-AF2E-CF0299858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424AD-4332-4CF2-AF5F-49BAA3A8E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23821-EE93-4416-A961-191845C14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E6C99-7AA7-446B-9CA4-4C418ADA0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A2D45-9831-4285-9C3F-0F3FD5D19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42249-3F4E-4F38-A6B4-9ACEE46225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7" dur="1000" fill="hold"/>
                                        <p:tgtEl>
                                          <p:spTgt spid="5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8" dur="1000" fill="hold"/>
                                        <p:tgtEl>
                                          <p:spTgt spid="5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4"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5" dur="10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