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DAECB-97B2-44C7-A206-FAFB933DC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05731-32A5-4DC6-B4DA-23D63A672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25729-1E92-4212-B0A2-0634C963B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07387-2F16-42CE-A97E-C554360C3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2BC19-E926-447B-A2BB-67CBDE696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268E3-9B28-4ACC-806A-467537863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72728-CE16-465B-8214-BF1BC761B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1AF69-B752-4BA4-8D8D-3AC03F280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AA34D-573F-47EC-BA76-4F0198C34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A086B-32D2-4E70-8772-E9C54B850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176F2-827E-4A44-9F4B-6ECF0A843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3808B-8668-4C1F-967E-C057BDC38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87744-8A5B-4E75-B0A8-909AC39E8B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4" dur="1000" fill="hold"/>
                                        <p:tgtEl>
                                          <p:spTgt spid="55">
                                            <p:txEl>
                                              <p:pRg st="2" end="2"/>
                                            </p:txEl>
                                          </p:spTgt>
                                        </p:tgtEl>
                                        <p:attrNameLst>
                                          <p:attrName>ppt_y</p:attrName>
                                        </p:attrNameLst>
                                      </p:cBhvr>
                                      <p:tavLst>
                                        <p:tav tm="0">
                                          <p:val>
                                            <p:strVal val="#ppt_y"/>
                                          </p:val>
                                        </p:tav>
                                        <p:tav tm="100000">
                                          <p:val>
                                            <p:strVal val="#ppt_y"/>
                                          </p:val>
                                        </p:tav>
                                      </p:tavLst>
                                    </p:anim>
                                    <p:animEffect filter="wipe(right)"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