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756D8-BE44-433A-8441-A0B3476D8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25F04-4BDE-45D2-BE8E-A3E4157AB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534D6-907A-48E5-9798-F8533F609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FA7F4-9B78-48A9-9C68-6AA18CD08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50393-8EBF-47EF-819A-E4564B895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4D81B-196A-49E0-AC90-EF3E94449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881D1-4E9F-487F-938E-7C6A83AE5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DDEED-903D-469A-9FA5-EA1D63447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C6E95-71AA-414C-B721-D3A4E49AF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7D77C-8C81-4F40-B1EE-8F65FA165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0893B-15B2-4236-A3B5-4AFC29FCB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86505-ED45-4FB1-BAD8-DDD59767E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E1D4-A457-4E22-BE76-DF87592DB0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ppt_w*2.5"/>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ppt_h*0.01"/>
                                          </p:val>
                                        </p:tav>
                                        <p:tav tm="100000">
                                          <p:val>
                                            <p:strVal val="#ppt_h"/>
                                          </p:val>
                                        </p:tav>
                                      </p:tavLst>
                                    </p:anim>
                                    <p:anim calcmode="lin" valueType="num">
                                      <p:cBhvr additive="repl">
                                        <p:cTn id="87"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ppt_h+1"/>
                                          </p:val>
                                        </p:tav>
                                        <p:tav tm="100000">
                                          <p:val>
                                            <p:strVal val="#ppt_y"/>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2000"/>
                                        <p:tgtEl>
                                          <p:spTgt spid="55">
                                            <p:txEl>
                                              <p:pRg st="3" end="3"/>
                                            </p:txEl>
                                          </p:spTgt>
                                        </p:tgtEl>
                                      </p:cBhvr>
                                    </p:animEffect>
                                    <p:anim calcmode="lin" valueType="num">
                                      <p:cBhvr additive="repl">
                                        <p:cTn id="95"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6"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