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16DF7-C884-494E-BE51-058E6E058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C2987-962B-4025-AE47-C23E86B1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F6D43-59C4-466A-834A-8F2FD2377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17364-C955-426B-B38B-2463B6FDB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B3EF8-E622-4E65-91F7-AB48F9928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9266-B58A-4306-8C33-E8CA6AE9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78B8-34D6-45DE-A67D-798B4F191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725B5-5AD9-489A-923F-0FD42EC8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2966-CD06-4B55-AF79-B43636FC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5632-0D16-4F90-9350-72EE78891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45D59-BDAF-4EFD-BEF5-EDB568539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19F3-68AA-4741-87B2-E5A571C37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F093-3BC2-4AC9-B6FC-E11B2EB37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3" dur="5000" fill="hold"/>
                                        <p:tgtEl>
                                          <p:spTgt spid="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