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40964-BB25-4E6D-9033-1CCB33991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00E49-C525-4A93-BCEA-C9B28C563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8FE8E-B998-4E76-9A2E-C4C9EC024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1102C-6620-4BA9-AC86-40FE973E1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961B2-EF76-4411-894B-6121BDA87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BF642-78BE-474F-82EC-1D4FD3B01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BD6F7-3F98-4767-8A55-021284353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925F8-9C3C-4509-A6E9-B9A0484D0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7AE23-0CCA-4C55-9221-BF8270D0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9CABA-4270-4BE3-A81B-72C96E116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48F0-3340-4947-8FC3-FC02C6F84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2216D-8E4D-486B-B3EE-5F0C8A633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151E-851E-4E03-837D-45164BFDC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anim calcmode="lin" valueType="num">
                                      <p:cBhvr additive="repl">
                                        <p:cTn id="92"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