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14CE3-D621-4AC6-BC56-59BCD5B85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1D5B3-AAE8-4633-A665-CC43DC397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6DB68-DD6C-4F43-BC5D-8765590E3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78184-062B-41A6-B129-B00F19CAA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7897E-2008-4DD7-873C-7EE5ADE45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CFE59-1068-489C-B648-24E239C74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82E25-9822-47E9-BCF0-728AE443F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15B9F-031A-4CBD-84E6-F4DF42F6E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73341-5164-4BBE-AB32-0A2728822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27657-554F-4418-A62E-7FD0E61BB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9F1A2-8062-4355-9D18-FBFFAA816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1731C-740C-4506-A0D0-B69BAA653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58D7C-A66D-4DD9-B04E-62E6537A74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ipe(up)"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2" dur="1000" fill="hold"/>
                                        <p:tgtEl>
                                          <p:spTgt spid="5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3" dur="1000" fill="hold"/>
                                        <p:tgtEl>
                                          <p:spTgt spid="5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