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8A572-54E6-4F6D-8B42-8AAB3934C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208A0-2E52-4A30-8342-B354AD3B9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836A8-3382-4E51-B9C0-096F4A689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6D1D7-E00C-4EE5-87F4-EE60FBCB3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80E8D-F614-400A-ABDD-80C256889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68F5B-AB47-46F8-B3A0-E70AFEB43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53818-33AD-4FCD-82F0-0C28B500F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2663D-62DD-4111-8E48-A7AF5B103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63883-D632-4D39-903C-5798C8B08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473A8-40B3-4C3B-8544-BB2B5BFD5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A660B-14CB-421D-A6DD-BA02102B4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EFD60-AB83-4435-AEF0-141A3653B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37DA-51A4-474E-95AD-D17775A0E1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fade" transition="in">
                                      <p:cBhvr additive="repl">
                                        <p:cTn id="84" dur="2000"/>
                                        <p:tgtEl>
                                          <p:spTgt spid="55">
                                            <p:txEl>
                                              <p:pRg st="2" end="2"/>
                                            </p:txEl>
                                          </p:spTgt>
                                        </p:tgtEl>
                                      </p:cBhvr>
                                    </p:animEffect>
                                    <p:anim calcmode="lin" valueType="num">
                                      <p:cBhvr additive="repl">
                                        <p:cTn id="85"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6"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slide(fromBottom)"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