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C700-975F-40DF-8D75-A80AB4E2A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62600-F938-4633-ADC6-DC0C0C88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CB9D6-317A-43F2-8001-645EEA579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36F4F-7AE7-4446-9BC9-79DD5BDC3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1E71B-DB53-44AA-9243-F70F67AC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86083-2181-4DFF-A639-06BE3DBC9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30265-7260-4E19-BE98-73C55F4B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ADF75-6A1F-4134-A03F-50E958E3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E3E8D-C4C0-4F4F-A835-5214EA2BE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FFDE-B99A-437D-93C9-67075B193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0F85F-D28E-4CB3-90D5-8D710646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2DFC-72F5-4580-8FB9-080B6C4BC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F106-C211-4C27-BD9A-53289EEB4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800"/>
                                        <p:tgtEl>
                                          <p:spTgt spid="55">
                                            <p:txEl>
                                              <p:pRg st="3" end="3"/>
                                            </p:txEl>
                                          </p:spTgt>
                                        </p:tgtEl>
                                      </p:cBhvr>
                                    </p:animEffect>
                                    <p:anim calcmode="lin" valueType="num">
                                      <p:cBhvr additive="repl">
                                        <p:cTn id="92"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3"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