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4A61C-A046-41FB-82AE-B40DD9880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7E96-4643-4E40-B94B-07DB2A688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5F6B3-FF0C-4758-8AB4-01CEE45F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32B17-3A2C-4B3F-8E24-227363B72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F1DB6-297F-403D-9E7F-6C397EAA5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4F208-1308-49D0-9B75-51122506A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331AF-83FA-46AB-B9F6-1CCFE98C9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4420F-B1A6-4290-B50D-B9893B2A6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2E1C5-FC8C-4A5E-B66C-42BBE87A0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18B84-8BE6-471B-A139-D204B844B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097EF-2285-4D16-AE2D-CBF0B8FD1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E672F-DC2B-41B1-AB75-3502512BF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6973-DA2F-4F81-B98E-0A3725DB4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100"/>
                                        <p:tgtEl>
                                          <p:spTgt spid="55">
                                            <p:txEl>
                                              <p:pRg st="3" end="3"/>
                                            </p:txEl>
                                          </p:spTgt>
                                        </p:tgtEl>
                                      </p:cBhvr>
                                    </p:animEffect>
                                    <p:anim calcmode="lin" valueType="num">
                                      <p:cBhvr additive="repl">
                                        <p:cTn id="93"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5"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