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7AEBB-CA86-4CBA-9855-D29C204C48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513A6-C412-4E18-A8B8-C6EF25190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E422A-AACB-43D2-8F11-0C2239C99E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CD91FF-C2C8-47A3-A618-57473B2BF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B70A1-965F-44E1-8CC4-256F96022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84940-DDA6-4117-A6C6-30F155FCA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04747-B724-47EA-9BDB-99A50DB78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A057F-C225-4EC2-B392-B5D2E58CA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D6F05-3655-4412-B9FB-2BA062366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CAA4D-5717-4E12-B729-0EE9F2E9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875D-9A1B-49EB-B926-CEB524D93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4573-C193-4986-A316-24398B232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AED0-31F3-46B0-9F50-66CCD06E98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discrete" valueType="clr">
                                      <p:cBhvr additive="repl">
                                        <p:cTn id="85"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86" dur="80"/>
                                        <p:tgtEl>
                                          <p:spTgt spid="55">
                                            <p:txEl>
                                              <p:pRg st="2" end="2"/>
                                            </p:txEl>
                                          </p:spTgt>
                                        </p:tgtEl>
                                        <p:attrNameLst>
                                          <p:attrName>fillcolor</p:attrName>
                                        </p:attrNameLst>
                                      </p:cBhvr>
                                      <p:tavLst>
                                        <p:tav tm="0">
                                          <p:val>
                                            <p:strVal val="rgb(-103,51,51)"/>
                                          </p:val>
                                        </p:tav>
                                        <p:tav tm="50000">
                                          <p:val>
                                            <p:strVal val="rgb(-103,-103,0)"/>
                                          </p:val>
                                        </p:tav>
                                      </p:tavLst>
                                    </p:anim>
                                    <p:set>
                                      <p:cBhvr>
                                        <p:cTn id="87" dur="80"/>
                                        <p:tgtEl>
                                          <p:spTgt spid="55">
                                            <p:txEl>
                                              <p:pRg st="2" end="2"/>
                                            </p:txEl>
                                          </p:spTgt>
                                        </p:tgtEl>
                                        <p:attrNameLst>
                                          <p:attrName>fill.type</p:attrName>
                                        </p:attrNameLst>
                                      </p:cBhvr>
                                      <p:to>
                                        <p:strVal val="solid"/>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3"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4"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6"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7"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8"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9" dur="1000">
                                          <p:stCondLst>
                                            <p:cond delay="0"/>
                                          </p:stCondLst>
                                        </p:cTn>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