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E5784E-DAB0-407D-A824-1DB0FEB09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0C41A-59D6-4C25-8175-954750462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D06ED-144E-411E-B5FC-5D7CEEF9B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C804E4-F3F2-40D6-82BE-4AE9741F3D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83372-7A26-4E5B-B977-1903C59D9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0D09C-0BFA-4DC1-803D-15CBD9942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1FA3F-B8EB-4888-B45C-70CEC433D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74C2F-99E6-4500-9E1F-D22F6885B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97B24-1A95-4BC5-9496-02F36BCB7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30E3C-2CB8-450B-9B70-85D1CF5E2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60088-072C-4162-9F64-4EC674F6D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CAE7D-B484-412F-9A04-C7BCFA79BD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D520B-0540-45D6-BFB8-0D82F180D1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Effect filter="fade" transition="in">
                                      <p:cBhvr additive="repl">
                                        <p:cTn id="80" dur="5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2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1" dur="5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2" dur="500" fill="hold"/>
                                        <p:tgtEl>
                                          <p:spTgt spid="55">
                                            <p:txEl>
                                              <p:pRg st="3" end="3"/>
                                            </p:txEl>
                                          </p:spTgt>
                                        </p:tgtEl>
                                        <p:attrNameLst>
                                          <p:attrName>r</p:attrName>
                                        </p:attrNameLst>
                                      </p:cBhvr>
                                      <p:tavLst>
                                        <p:tav tm="0">
                                          <p:val>
                                            <p:strVal val="360"/>
                                          </p:val>
                                        </p:tav>
                                        <p:tav tm="100000">
                                          <p:val>
                                            <p:strVal val="0"/>
                                          </p:val>
                                        </p:tav>
                                      </p:tavLst>
                                    </p:anim>
                                    <p:animEffect filter="fade" transition="in">
                                      <p:cBhvr additive="repl">
                                        <p:cTn id="93" dur="5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