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8ADFD2-9D21-40D9-9980-F375F56392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434AF-45D2-45A7-9D49-9BE1F121E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403D2D-63D6-4265-8E14-CF8B206FBB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BBDF8B-1ED1-4C6B-812E-D41EBC2B9B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FD5B1-32B3-4129-96A9-2328F87E8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695F8-CAD5-4812-A51E-750F88E4C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E6FFA-6BAE-48FE-B107-468CDE154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9D5A1-BAC8-4B61-AA20-26F1A1F1B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75BB1-5BEB-498A-B006-15D25F423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308DA-5EDA-4C31-9591-D155CFB59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894A2-5155-49FF-8CDF-2A0003C90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AFD09-E7E4-4DD4-B1D5-135D70621F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87BA1-D563-438A-BB24-B44258062A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1"/>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6" dur="500" fill="hold"/>
                                        <p:tgtEl>
                                          <p:spTgt spid="55">
                                            <p:txEl>
                                              <p:pRg st="2" end="2"/>
                                            </p:txEl>
                                          </p:spTgt>
                                        </p:tgtEl>
                                        <p:attrNameLst>
                                          <p:attrName>ppt_h</p:attrName>
                                        </p:attrNameLst>
                                      </p:cBhvr>
                                      <p:tavLst>
                                        <p:tav tm="0">
                                          <p:val>
                                            <p:strVal val="0"/>
                                          </p:val>
                                        </p:tav>
                                        <p:tav tm="100000">
                                          <p:val>
                                            <p:strVal val="#ppt_h"/>
                                          </p:val>
                                        </p:tav>
                                      </p:tavLst>
                                    </p:anim>
                                    <p:animEffect filter="fade" transition="in">
                                      <p:cBhvr additive="repl">
                                        <p:cTn id="87" dur="5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93"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4" dur="1000"/>
                                        <p:tgtEl>
                                          <p:spTgt spid="5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