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FE1B-8049-41A3-B4F9-333F4B98C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1623-76B7-4A69-A9D5-F0273354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E7599-9978-4FB8-A830-E4082E495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B68EB-4571-41F2-921F-B92918A05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8242-231B-4731-9C35-1C092674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EF06-C38B-4208-8500-81D4CE53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0603-B680-449E-8AE0-CC7F4AF2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FBB6-D5C9-4F85-9B87-B6A44D299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FB5D-11A9-4667-B162-B130ECEA2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1756-5701-49BA-9A2F-3DBAA97C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A104-8E22-4678-B7DD-1AA96CA5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9C7E-A8A5-4F7D-88FA-C9A82DBFE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F5F8-8E7F-4986-8D0A-A4D4BF664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set>
                                      <p:cBhvr>
                                        <p:cTn id="83" dur="455" fill="hold">
                                          <p:stCondLst>
                                            <p:cond delay="0"/>
                                          </p:stCondLst>
                                        </p:cTn>
                                        <p:tgtEl>
                                          <p:spTgt spid="55">
                                            <p:txEl>
                                              <p:pRg st="2" end="2"/>
                                            </p:txEl>
                                          </p:spTgt>
                                        </p:tgtEl>
                                        <p:attrNameLst>
                                          <p:attrName>r</p:attrName>
                                        </p:attrNameLst>
                                      </p:cBhvr>
                                      <p:to>
                                        <p:strVal val="-45"/>
                                      </p:to>
                                    </p:set>
                                    <p:anim calcmode="lin" valueType="num">
                                      <p:cBhvr additive="repl">
                                        <p:cTn id="84"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5"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6"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